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2BD2-3900-49C6-BFCC-DED873B0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025-DC2B-4DCF-8EFF-66490807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E96-959C-46A5-851F-9C548DF8D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49A-DBEB-4E05-85A3-299A90587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7A15-C581-4906-9799-96B2C6B5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72A-A0D3-4418-B7A3-0606CD12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C408-4A15-406D-BB18-2276CFE0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4AF0-B7D2-486E-BA04-40F4BEE5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E321-BAE0-4B3C-A3B5-872C45E69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7BDB-F365-4BB2-BE46-875CEA88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B9FB-DCC0-4189-BC91-7CADF890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C435-0F22-4BDB-9FD2-296995E3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CB78-42D0-4BCA-82A3-AC2FEBE7A2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slide3.xml"/><Relationship Id="rId3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ademic Rec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49944"/>
              <a:gd name="adj2" fmla="val 2006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peech and Debate, Foreig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nguage, Chess, Yearboo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Future Busine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eaders of Americ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a few examp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clubs/activit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44"/>
              <a:gd name="adj2" fmla="val 2118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how many cred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need to t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on average) each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6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49944"/>
              <a:gd name="adj2" fmla="val 1950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social studies cl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should tak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r sophomore ye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US Histo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50101"/>
              <a:gd name="adj2" fmla="val 172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se are the courses you n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o take a total of 90 cred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to gradu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Electiv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944"/>
              <a:gd name="adj2" fmla="val 1978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group elected from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student body to ser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s representatives to help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vern the schoo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tudent council/governmen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49944"/>
              <a:gd name="adj2" fmla="val 1895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redits you ear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en you earn an F in a cl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zer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50101"/>
              <a:gd name="adj2" fmla="val 197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is is the English or Language A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ass you should tak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our freshman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Introduction to Literature and Composi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50101"/>
              <a:gd name="adj2" fmla="val 18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requiremen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CTE (Career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chnical Education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lfi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Fine Ar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50101"/>
              <a:gd name="adj2" fmla="val 2090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mecoming and P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examp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danc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4">
            <a:hlinkClick r:id="rId1" action="ppaction://hlinksldjump"/>
          </p:cNvPr>
          <p:cNvSpPr/>
          <p:nvPr/>
        </p:nvSpPr>
        <p:spPr>
          <a:xfrm>
            <a:off x="2590920" y="13716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5">
            <a:hlinkClick r:id="rId3" action="ppaction://hlinksldjump"/>
          </p:cNvPr>
          <p:cNvSpPr/>
          <p:nvPr/>
        </p:nvSpPr>
        <p:spPr>
          <a:xfrm>
            <a:off x="4952880" y="14479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8">
            <a:hlinkClick r:id="rId5" action="ppaction://hlinksldjump"/>
          </p:cNvPr>
          <p:cNvSpPr/>
          <p:nvPr/>
        </p:nvSpPr>
        <p:spPr>
          <a:xfrm>
            <a:off x="2590920" y="2666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">
            <a:hlinkClick r:id="rId7" action="ppaction://hlinksldjump"/>
          </p:cNvPr>
          <p:cNvSpPr/>
          <p:nvPr/>
        </p:nvSpPr>
        <p:spPr>
          <a:xfrm>
            <a:off x="7162920" y="2666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2">
            <a:hlinkClick r:id="rId9" action="ppaction://hlinksldjump"/>
          </p:cNvPr>
          <p:cNvSpPr/>
          <p:nvPr/>
        </p:nvSpPr>
        <p:spPr>
          <a:xfrm>
            <a:off x="380880" y="51055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4">
            <a:hlinkClick r:id="rId11" action="ppaction://hlinksldjump"/>
          </p:cNvPr>
          <p:cNvSpPr/>
          <p:nvPr/>
        </p:nvSpPr>
        <p:spPr>
          <a:xfrm>
            <a:off x="2590920" y="51055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6">
            <a:hlinkClick r:id="rId13" action="ppaction://hlinksldjump"/>
          </p:cNvPr>
          <p:cNvSpPr/>
          <p:nvPr/>
        </p:nvSpPr>
        <p:spPr>
          <a:xfrm>
            <a:off x="7162920" y="38862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8">
            <a:hlinkClick r:id="rId15" action="ppaction://hlinksldjump"/>
          </p:cNvPr>
          <p:cNvSpPr/>
          <p:nvPr/>
        </p:nvSpPr>
        <p:spPr>
          <a:xfrm>
            <a:off x="7162920" y="51055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22860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2362320" y="380880"/>
            <a:ext cx="175248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876920" y="228600"/>
            <a:ext cx="1600200" cy="703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QUIRE-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6781680" y="380880"/>
            <a:ext cx="2057400" cy="6426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ETTING INVOLV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7">
            <a:hlinkClick r:id="rId17" action="ppaction://hlinksldjump"/>
          </p:cNvPr>
          <p:cNvSpPr/>
          <p:nvPr/>
        </p:nvSpPr>
        <p:spPr>
          <a:xfrm>
            <a:off x="380880" y="13716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8">
            <a:hlinkClick r:id="rId18" action="ppaction://hlinksldjump"/>
          </p:cNvPr>
          <p:cNvSpPr/>
          <p:nvPr/>
        </p:nvSpPr>
        <p:spPr>
          <a:xfrm>
            <a:off x="380880" y="39625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30">
            <a:hlinkClick r:id="rId20" action="ppaction://hlinksldjump"/>
          </p:cNvPr>
          <p:cNvSpPr/>
          <p:nvPr/>
        </p:nvSpPr>
        <p:spPr>
          <a:xfrm>
            <a:off x="2590920" y="38862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31">
            <a:hlinkClick r:id="rId22" action="ppaction://hlinksldjump"/>
          </p:cNvPr>
          <p:cNvSpPr/>
          <p:nvPr/>
        </p:nvSpPr>
        <p:spPr>
          <a:xfrm>
            <a:off x="4952880" y="396252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32">
            <a:hlinkClick r:id="rId24" action="ppaction://hlinksldjump"/>
          </p:cNvPr>
          <p:cNvSpPr/>
          <p:nvPr/>
        </p:nvSpPr>
        <p:spPr>
          <a:xfrm>
            <a:off x="4952880" y="2666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33">
            <a:hlinkClick r:id="rId26" action="ppaction://hlinksldjump"/>
          </p:cNvPr>
          <p:cNvSpPr/>
          <p:nvPr/>
        </p:nvSpPr>
        <p:spPr>
          <a:xfrm>
            <a:off x="4952880" y="51814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35">
            <a:hlinkClick r:id="rId28" action="ppaction://hlinksldjump"/>
          </p:cNvPr>
          <p:cNvSpPr/>
          <p:nvPr/>
        </p:nvSpPr>
        <p:spPr>
          <a:xfrm>
            <a:off x="380880" y="26668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36">
            <a:hlinkClick r:id="rId30" action="ppaction://hlinksldjump"/>
          </p:cNvPr>
          <p:cNvSpPr/>
          <p:nvPr/>
        </p:nvSpPr>
        <p:spPr>
          <a:xfrm>
            <a:off x="7162920" y="13716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1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44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609480" y="15238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5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50101"/>
              <a:gd name="adj2" fmla="val 19509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s is how many cred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you need to graduat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24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50101"/>
              <a:gd name="adj2" fmla="val 2173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n elective that ROT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lfill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PE or Physical Educ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49787"/>
              <a:gd name="adj2" fmla="val 2034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se are the su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need to take and pa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0 credits of to gradu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Language Arts and Math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49944"/>
              <a:gd name="adj2" fmla="val 17004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otball, basketball, volleybal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ennis, wrestling and swim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 a few examp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DPS athletic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50101"/>
              <a:gd name="adj2" fmla="val 1867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how many cred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one-semester class is wor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5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1143000" y="1143000"/>
            <a:ext cx="7162920" cy="4038480"/>
          </a:xfrm>
          <a:prstGeom prst="wedgeRectCallout">
            <a:avLst>
              <a:gd name="adj1" fmla="val -49944"/>
              <a:gd name="adj2" fmla="val 1978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math clas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ost freshman t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Algebra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49787"/>
              <a:gd name="adj2" fmla="val 1895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se are the subjec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ou need to take and pa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0 credits of to graduat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Science and Social Studi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Cori Canty</cp:lastModifiedBy>
  <cp:lastPrinted>2001-01-31T16:21:13Z</cp:lastPrinted>
  <dcterms:modified xsi:type="dcterms:W3CDTF">2010-07-20T17:45:04Z</dcterms:modified>
  <cp:revision>93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